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E00-7779-4F8B-940B-8B0C4E05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8E6-A005-4892-9232-BA544FA1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861-B792-49A8-A896-B5994945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842-421F-4D22-A650-F11160EE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FC27-E79D-43AC-9B5E-22A53EC0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2AF-2AB2-4A75-BC2F-267B4927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2750-564D-4F84-B8F9-C1F28A7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6C08-FEF7-45FA-AAA8-D2BCA33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C819-5DCC-4C26-905D-CAED95A1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9509-8B0F-49D6-839F-04CEA38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BDC9-3FD7-46C3-B322-A5405F1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1C1-DC82-4028-BD02-9321CA04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3B5E-8CC7-4F73-BE76-CC71934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7C74-F5E3-4117-BBAA-2324F01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3B51-2533-4EC7-A332-24D5224B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D2B3-C7AB-4CEF-9493-65BCFCC8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121A-5EDE-4BA1-9B30-D1302339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D96-A32B-4114-8AC5-428F3992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A9D-47E4-4B60-B2CF-4F776D9C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A8F-FD44-4391-864A-7CCE37BA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17F-C7B5-4668-A6F5-8C9C4BB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F03-B8A2-4E85-8AEC-9CF3D95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D8B-05A9-4E9D-88D4-AF40C33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609-6386-40BA-847A-C77E870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70FD-FF29-4CDC-8D02-B5468663220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F71-249B-4586-81C5-4E0E3DDFC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colink\Local Settings\Temporary Internet Files\Content.IE5\97JP7G3P\MPj04403160000[1].jpg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0C95-D338-45EB-B2B7-973525E081E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53DD-5E3B-4665-BFCE-5180AED563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C:\Documents and Settings\colink\Local Settings\Temporary Internet Files\Content.IE5\RZF77SXO\MCj04325480000[1].png"/>
          <p:cNvPicPr/>
          <p:nvPr/>
        </p:nvPicPr>
        <p:blipFill>
          <a:blip r:embed="rId1"/>
          <a:stretch/>
        </p:blipFill>
        <p:spPr>
          <a:xfrm>
            <a:off x="1054080" y="1822320"/>
            <a:ext cx="7169040" cy="4127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5142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Creato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90" name="music.mp3" descr=""/>
          <p:cNvPicPr/>
          <p:nvPr/>
        </p:nvPicPr>
        <p:blipFill>
          <a:blip r:embed="rId4"/>
          <a:stretch/>
        </p:blipFill>
        <p:spPr>
          <a:xfrm>
            <a:off x="-30492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8375-39CE-449C-9F5D-F08D8377206C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21EC-BEAC-4A2D-A92C-C497E54FFF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Group’s Miss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reate entertainment for the people listening to th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thors job is to inspire the lis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CD2-A44C-4F29-BF06-9FD2E5ECCA24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B527-56F7-4DF4-B6C6-A37A8C27EA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colink\Local Settings\Temporary Internet Files\Content.IE5\I46F7AGD\MCj04404040000[1].png"/>
          <p:cNvPicPr/>
          <p:nvPr/>
        </p:nvPicPr>
        <p:blipFill>
          <a:blip r:embed="rId1"/>
          <a:stretch/>
        </p:blipFill>
        <p:spPr>
          <a:xfrm rot="809400">
            <a:off x="5866920" y="3505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We Re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ors repres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&amp; independent music art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 Wri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 Produc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CD23-C2D3-42DE-BF52-F09E08F58B53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20DA-F74C-4845-A22D-6C679632AD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colink\Local Settings\Temporary Internet Files\Content.IE5\Z2VPR2HM\MCj02412550000[1].wmf"/>
          <p:cNvPicPr/>
          <p:nvPr/>
        </p:nvPicPr>
        <p:blipFill>
          <a:blip r:embed="rId1"/>
          <a:stretch/>
        </p:blipFill>
        <p:spPr>
          <a:xfrm>
            <a:off x="5711760" y="3193920"/>
            <a:ext cx="2371680" cy="231156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er-to-peer Opi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anadian music creators want to legalize p2p file sha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gue it’s a way for foreign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isten to their music and lear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thei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creators specially in the US believe file sharing should be controlled be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A887-D144-41BD-8278-661B5BD97BFD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09B2-2516-4127-B561-1C5E733A41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Peer-to-peer Opin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Music Creators, copyright is very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recognition on their work depends much on the copyright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7CDC-02E4-490D-B0CC-2517ED1489E5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BB52-81D3-431D-BB78-25DF34925B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colink\Local Settings\Temporary Internet Files\Content.IE5\RZF77SXO\MMj01783080000[1].gif"/>
          <p:cNvPicPr/>
          <p:nvPr/>
        </p:nvPicPr>
        <p:blipFill>
          <a:blip r:embed="rId1"/>
          <a:stretch/>
        </p:blipFill>
        <p:spPr>
          <a:xfrm>
            <a:off x="655308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changes do we want in copyright law?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iTunes and other music sharing sites to pay for the song samples off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file sharing to be legal b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he one sharing it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0962-067C-4C74-BC1E-6934AD707F0E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134-750C-4559-AD4E-8CDE3ED17B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colink\Local Settings\Temporary Internet Files\Content.IE5\I46F7AGD\MCj04338540000[1].png"/>
          <p:cNvPicPr/>
          <p:nvPr/>
        </p:nvPicPr>
        <p:blipFill>
          <a:blip r:embed="rId1"/>
          <a:stretch/>
        </p:blipFill>
        <p:spPr>
          <a:xfrm rot="20937000">
            <a:off x="4114440" y="3809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re the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y charge for sample music the creators will get more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creative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3A9B-49EF-4603-AF02-267ADB04DCF3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026-ACB2-491D-967A-43BA1F44C6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colink\Local Settings\Temporary Internet Files\Content.IE5\97JP7G3P\MPj04450040000[1]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81480" y="2433600"/>
            <a:ext cx="3240360" cy="41958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5:19:50Z</dcterms:created>
  <dc:creator>user</dc:creator>
  <dc:description/>
  <dc:language>en-US</dc:language>
  <cp:lastModifiedBy>user</cp:lastModifiedBy>
  <dcterms:modified xsi:type="dcterms:W3CDTF">2010-02-10T15:18:06Z</dcterms:modified>
  <cp:revision>14</cp:revision>
  <dc:subject/>
  <dc:title>Creators</dc:title>
</cp:coreProperties>
</file>